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F5E67-5B6D-4A29-A680-DAB475FBF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C1DC5-5D56-4EC4-9B13-7912DCB81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1F476-FDD6-4838-94E0-F10CF92A6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A1149-C0F1-460F-858B-37A20D89D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74D8-FA28-4F47-86E4-9C801282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9529C-D518-4A11-8D87-A857685A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7B8EA-4C88-4B21-92F4-F6ADE5B7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32564-D039-44F8-8433-4F09493E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D8876-74BA-4FD4-9ED1-176ED413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6A82-2EE4-4029-97CD-A15E8D96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0A5B-BAB9-4ABF-8C88-54212431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3EBA-3638-4C4D-A42F-77FDB8D42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AA8D8-942D-4681-B8B9-53E37F23709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C11D0-4A70-417B-B8F5-DC325030F5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Picture 1.png"/>
          <p:cNvPicPr/>
          <p:nvPr/>
        </p:nvPicPr>
        <p:blipFill>
          <a:blip r:embed="rId1"/>
          <a:stretch/>
        </p:blipFill>
        <p:spPr>
          <a:xfrm>
            <a:off x="0" y="0"/>
            <a:ext cx="4800600" cy="6858000"/>
          </a:xfrm>
          <a:prstGeom prst="rect">
            <a:avLst/>
          </a:prstGeom>
          <a:ln w="0">
            <a:noFill/>
          </a:ln>
        </p:spPr>
      </p:pic>
      <p:pic>
        <p:nvPicPr>
          <p:cNvPr id="44" name="Picture 4" descr="Picture 2.png"/>
          <p:cNvPicPr/>
          <p:nvPr/>
        </p:nvPicPr>
        <p:blipFill>
          <a:blip r:embed="rId2"/>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thematical Preparation of Chocolate Milk</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Jenny was mixing herself a glass of chocolate milk.  “ You certainly have enough chocolate syrup in your glass,” remarked Kevin who then found a glass of milk of his own.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Only a third of a glass of syrup, said Jenny.  “And you’re certainly taking your share.”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I have only one fourth of a glass,” estimated Kevin.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But Kevin, your glass holds twice as much!”</a:t>
            </a:r>
            <a:br>
              <a:rPr sz="2200"/>
            </a:br>
            <a:r>
              <a:rPr b="0" lang="en-US" sz="2200" spc="-1" strike="noStrike">
                <a:solidFill>
                  <a:srgbClr val="000000"/>
                </a:solidFill>
                <a:latin typeface="Calibri"/>
              </a:rPr>
              <a:t>“Tell you what,” said Kevin, after they both had mixed milk and syrup in their glasses.  “Let’s combine our drinks in a larger pitcher and then split the whole amoun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ile Jenny is trying to decide whether or not this arrangement is to her advantage, can you say what part of the combined mixture would be syrup?  Use pictures, numbers, or words to show your solution strategy.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8" name="Picture 5" descr="Picture 3.png"/>
          <p:cNvPicPr/>
          <p:nvPr/>
        </p:nvPicPr>
        <p:blipFill>
          <a:blip r:embed="rId1"/>
          <a:stretch/>
        </p:blipFill>
        <p:spPr>
          <a:xfrm>
            <a:off x="0" y="0"/>
            <a:ext cx="6095880" cy="3292560"/>
          </a:xfrm>
          <a:prstGeom prst="rect">
            <a:avLst/>
          </a:prstGeom>
          <a:ln w="0">
            <a:noFill/>
          </a:ln>
        </p:spPr>
      </p:pic>
      <p:pic>
        <p:nvPicPr>
          <p:cNvPr id="49" name="Picture 6" descr="Picture 4.png"/>
          <p:cNvPicPr/>
          <p:nvPr/>
        </p:nvPicPr>
        <p:blipFill>
          <a:blip r:embed="rId2"/>
          <a:stretch/>
        </p:blipFill>
        <p:spPr>
          <a:xfrm>
            <a:off x="1828800" y="1733400"/>
            <a:ext cx="5697360" cy="3265560"/>
          </a:xfrm>
          <a:prstGeom prst="rect">
            <a:avLst/>
          </a:prstGeom>
          <a:ln w="0">
            <a:noFill/>
          </a:ln>
        </p:spPr>
      </p:pic>
      <p:pic>
        <p:nvPicPr>
          <p:cNvPr id="50" name="Content Placeholder 3" descr="Picture 5.png"/>
          <p:cNvPicPr/>
          <p:nvPr/>
        </p:nvPicPr>
        <p:blipFill>
          <a:blip r:embed="rId3"/>
          <a:stretch/>
        </p:blipFill>
        <p:spPr>
          <a:xfrm>
            <a:off x="3195720" y="3962520"/>
            <a:ext cx="574992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01:08:22Z</dcterms:created>
  <dc:creator>Seattle University</dc:creator>
  <dc:description/>
  <dc:language>en-US</dc:language>
  <cp:lastModifiedBy>Seattle University</cp:lastModifiedBy>
  <dcterms:modified xsi:type="dcterms:W3CDTF">2010-12-06T16:28:00Z</dcterms:modified>
  <cp:revision>5</cp:revision>
  <dc:subject/>
  <dc:title>Slide 1</dc:title>
</cp:coreProperties>
</file>